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370-5E6A-4815-A69D-0F81AC6F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652-CC42-4261-A6B3-6814D034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C53-FB03-40DB-8CC2-7F61721B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FCA-2A06-4814-A419-0F74A9CB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C5D-8877-4D52-B31A-A93E3936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74A-77A1-4E50-B42D-A9A34DE2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3D7-9CEA-4DE0-83D4-C67B313F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005-55F5-4490-AF67-6F110A56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F18-63EC-4A69-9D19-72D79C72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C91-DB26-4B7D-8A01-FB9C8FD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7D7-110F-4CB5-96AA-954C11E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9AB-565F-40A7-8979-05D13E8B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388-5F3C-4AC1-BD78-D677C2FD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D Mercury Accounting Modu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C7C-93EA-4317-93E3-39455B1AF1D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53337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3880" y="1219320"/>
            <a:ext cx="6629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tart and end date for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ow balance report shall be printed, Summary vs.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183-5011-4D4A-95AE-F3DC96F08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63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B23-AF3D-4F10-86CE-511ED0E7E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14720" y="1447920"/>
            <a:ext cx="585756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924680" y="5486400"/>
            <a:ext cx="5335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10B-03E4-451C-A8D4-6087F497AA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ta in Quickboo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9907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E sales are exported by sale date of trans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 sales are export by z-out date if the z-out date is different than the sale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sale data is not exported to Quickbook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s exported only as daily totals for each day in the date range selected.  Detail is found in FTD Mercury Reports (Mercury Form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ily totals includ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&amp; checks recei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 cards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 account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 &amp; service charge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category of the item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A55-D501-49B1-94D3-956C1ABA0BC3}" type="slidenum">
              <a:t>13</a:t>
            </a:fld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43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3080" y="1676160"/>
            <a:ext cx="19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482760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552360" y="1981080"/>
            <a:ext cx="838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3962520"/>
            <a:ext cx="838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C35-9E95-49F7-95C1-9F5C0B321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 Explaine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$100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D Merc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ower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$59.99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ishables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59.9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col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2.95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2.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20.00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Income    $20.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7.06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Tax Payable $7.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sh Paid $1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s are part of the ‘Perishables’ product categ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is part of the ‘Candy’ product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7432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5812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96252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3434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A5C-9094-4FF7-89B2-578D6DFADD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ndling Wire Order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on wire ord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flor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elling commission of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flor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product &amp; delivery less the sending florist commission and wire service commission of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213-4419-401C-8345-94DA3E2E4D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Wire Orders Appear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yment of wire order is transferred into Accounts Receiv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sales of product category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 Payment 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%) Product &amp; Delivery (Outgoing 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0%) Accounts Pay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80% that is paid to FTD on outgoing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64A-35EA-4FFA-944D-63A7899322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make journal entries in Quickbooks to account for what you are actually paid on wire or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entries are already made in Quickboo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 (80% paid to FTD on 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100% of amount received over the wire on incoming or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817-3B83-4CA0-AD50-767F2D990F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ries will you have to make in Quick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ommissions Expense (20% kept by sending florist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dvance Expense (7% commission to FTD taken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 and other charges for wire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ire service expenses and cred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477-FC6F-430B-90B1-55CBB3B88E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Basic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data is transferred\exported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TD Mercury exports sales data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FTD Mercury sales data appears in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payment of wire orders from your monthly clearinghous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A26-76C4-49E3-9B12-9CAE2B193F75}" type="slidenum">
              <a:t>2</a:t>
            </a:fld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’s look at an FTD Clearing House State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ection B from the Clearing House Statement page labeled ‘ FTD Member Activity Statement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not use the amount listed for Section B from the Statement Summary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page does not show the amounts that you need to enter for  ‘Commission Expense’ and ‘Wire Service Commission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9A1-952C-4B23-916E-79FD9101DE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mber Activity Statement – Section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95520" y="1886040"/>
            <a:ext cx="70945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1F8-539C-46D6-9A32-87283D7CDD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292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267080"/>
            <a:ext cx="769608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Add all 20 % commissions given for incoming orders. This is your ‘Commissions Expe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learing House &amp; Marketing Advance is the ‘ Wire Service Commiss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FE9-6524-4D84-8A2E-05F58CE83C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 FTD wire service commission equals $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‘Wire Commission Expense’ 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3.4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4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791320" cy="27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 flipH="1">
            <a:off x="6781680" y="243828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27432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680" y="3429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5B5-B9B1-4638-9D42-94797F680F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F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to Sending Flor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Wire Com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10D-B611-4D28-9865-17FA5A0319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343400"/>
            <a:ext cx="7696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btract all 20 % commissions earned for the amount listed above for outgoing orders. This is the 80% paid to FTD on outgoing orders. This amount has already been calculated for you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30B-7AA7-406D-87DF-91F472312F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7696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this example FTD accounts payable total is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$1992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8.00 –     5.60 =    22.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409.00 - 481.80 = 197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15000" y="4724280"/>
            <a:ext cx="2209680" cy="3812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638680" y="4724280"/>
            <a:ext cx="2286000" cy="838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9D5-5047-4001-BBE8-3B9CD0AF73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Accts Pay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366-1AEA-4729-B943-37C5D52F25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Adjustment &amp; other char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to additional entries for adjustments, taxes or Retrans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ntries should be made to the appropriate account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B57-236B-48BA-A2D9-E22D6DC17D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ire Expenses &amp; Cred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order related expenses and rebates will appear in other sections of the clearing hous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hould be entered into Quickbooks to accounts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create additional accounts in Quickbooks to track these expenses and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D95-3B4A-44AE-BA69-A154838840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ligible for expor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NTERED INTO THE SYSTEM THAT MEETS THE CRIT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ECD-8FDE-479D-8787-2598A8CD8D32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learing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earing account can be used to ensure all entries you make in Quickbooks a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follows GAAP Generally Accepted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you make an offsetting journal entry when entering in expenses and cre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ring account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92C-1A53-4206-8BB5-EA2CF19513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make an entry for 20% commissions given on incoming orders you would offset this entry against the clearing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expenses and credit are offset to the same clearing account this ensures the entries are made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all activity has been entered from the clearing house statement and offset to the clearing account, the remaining balance on the clearing account will represent a amount that is owed to FTD or a check received from F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F9F-3C56-4840-A627-FFB64C3C4B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that remains in the clearing account received should match the amount showing on the clearing house stat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 once a check has been deposited from FTD or and check written to FTD that entry will be made against the clearing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ntry will clear the balance in the clearing accou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EF2-9927-48C3-95ED-C2C0F8C223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9E0-29D2-48A5-9888-C5BAE45A8F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eria For Dat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mpleted Order Entry  &amp; Point Of Sa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 sales in a closed POS session (z-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account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entered from ‘Manual Ticket’ window (Credit &amp; debit m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DF3-A77B-4674-855C-EA0225958C92}" type="slidenum">
              <a:t>4</a:t>
            </a:fld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t of Accounts Set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638680" cy="363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486400" y="2286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E91-0285-4FA0-B7D5-E944A335F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of accounts creates the Quickbooks company file where data will be ex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 also transfers any changes made in FTD Mercury that will affect the structure of the Quickbooks company file. i.e. creating a new product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decisions on how you want certain types of information to transfer to Quic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C03-F314-4839-8B2F-A1FCA9ADF7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 Setup: What You Must Consid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 Store Setu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any file for all vs. separate company file for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h Depos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ash hold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Card depos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redit card holding account (Accounts Re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d Outs &amp; In from 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expense vs. 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E2B-3C58-416D-AEAD-9F8D067E99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dditional bank ac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eginning date for the ex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\change GL account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B8F-F3AD-4F15-8A65-6A62F800E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exported (transferred) to Quickbooks through the Balance Wizard option from Accoun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5105520" cy="329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638680" y="36576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32B-CFFD-4A36-ADE7-B96D2DA519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AC3740</cp:lastModifiedBy>
  <cp:lastPrinted>2004-05-28T16:39:18Z</cp:lastPrinted>
  <dcterms:modified xsi:type="dcterms:W3CDTF">2008-10-09T18:36:51Z</dcterms:modified>
  <cp:revision>44</cp:revision>
  <dc:subject/>
  <dc:title>PowerPoint Presentation</dc:title>
</cp:coreProperties>
</file>